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BBA1B6-7D1D-4CCB-9A5D-61998F02F4F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= U S VT , AT = V S UT , AT U S-1 =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 f(u) * f(v) &lt;= ||f(u)||^2 + ||f(v)||^2 - ||f(u) </a:t>
            </a:r>
            <a:r>
              <a:rPr b="0" lang="mr-IN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f(v)||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= (1+eps) ||u||^2 + (1+eps) ||v||^2 </a:t>
            </a:r>
            <a:r>
              <a:rPr b="0" lang="mr-IN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1-eps) ||u-v||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f(u)f(v) &lt;= (1+eps) (||u||^2 + ||v||^2) </a:t>
            </a:r>
            <a:r>
              <a:rPr b="0" lang="mr-IN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1-eps) (||u||^2 + ||v||^2 </a:t>
            </a:r>
            <a:r>
              <a:rPr b="0" lang="mr-IN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2 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=  2 eps (||u||^2 + ||v||^2) + (1-eps) (2 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E18-AF03-4B2E-A9E8-C20E4E0B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741-987D-4C1E-8429-CBA9282A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AA43-112C-4CC5-A39B-10D3B339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2C8-06D0-44CD-888A-FA08E783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4177-2349-47DA-84BF-E9FB6568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364F-864C-4A7B-8CD8-A3F70290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1B79-F486-4560-877A-65DB0CB0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DEAD-1E4E-414B-9B98-A5D34B5B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4E26-2B9F-478B-A794-7087784A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A4F8-4231-4298-8595-6D5DFBC4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3281-6C35-4589-85BD-ADD72E81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279-1C86-4430-86C5-06ED8A36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B36D-73F3-432E-A8FE-5F5DA5FC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0DEE-300B-4D2F-A8EC-A72C8534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2C7A-F470-4778-B621-E13B6206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2451-846A-48F5-A0B6-95A40BDB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392D-6C52-41EE-8412-D3E959C3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D45-788D-4A40-BAFF-06F17B9F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889-26ED-47D4-82CE-A5E384F9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785-BB7A-4C03-B697-FBD40249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E71-7D8E-422D-A105-6CE65854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938-6463-48F8-8DCA-0161BE7D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40E-268A-497F-9FBE-B3360BD4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15A-5C42-4411-B9D3-96491D06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D8FA-ED9D-4BC2-BC96-7513F4162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5C8D-AA41-4D4D-B1AE-EE03F2786127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cking to fewer dimens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7" name="Immagine 3" descr=""/>
          <p:cNvPicPr/>
          <p:nvPr/>
        </p:nvPicPr>
        <p:blipFill>
          <a:blip r:embed="rId1"/>
          <a:stretch/>
        </p:blipFill>
        <p:spPr>
          <a:xfrm>
            <a:off x="666720" y="1773360"/>
            <a:ext cx="781056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9" name="Immagine 2" descr=""/>
          <p:cNvPicPr/>
          <p:nvPr/>
        </p:nvPicPr>
        <p:blipFill>
          <a:blip r:embed="rId1"/>
          <a:stretch/>
        </p:blipFill>
        <p:spPr>
          <a:xfrm>
            <a:off x="750960" y="1674720"/>
            <a:ext cx="7642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1" name="Immagine 3" descr=""/>
          <p:cNvPicPr/>
          <p:nvPr/>
        </p:nvPicPr>
        <p:blipFill>
          <a:blip r:embed="rId1"/>
          <a:stretch/>
        </p:blipFill>
        <p:spPr>
          <a:xfrm>
            <a:off x="0" y="1724040"/>
            <a:ext cx="9144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uarante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4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37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s a pretty good approximation to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lative distances are (approximately) preserv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f all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matrices of rank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the best approximation to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 wr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following measures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, rank(B)=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||A-B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= ||A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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40000"/>
              </a:lnSpc>
              <a:spcBef>
                <a:spcPts val="125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, rank(B)=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||A-B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||A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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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+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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262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obenius norm 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||A||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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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840" y="1557360"/>
            <a:ext cx="8750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Since we are interested in doc/doc correlation, we consider: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=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=(U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S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V 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(U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S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V 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 = (S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V 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(S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V 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nce X =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S V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a matrix r x n, may play the role of 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 reduce its size we set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X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 = S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 V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a matrix k x 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nd thus get </a:t>
            </a:r>
            <a:r>
              <a:rPr b="0" i="1" lang="en-US" sz="2200" spc="-1" strike="noStrike">
                <a:solidFill>
                  <a:srgbClr val="ff0000"/>
                </a:solidFill>
                <a:latin typeface="Lucida Sans"/>
              </a:rPr>
              <a:t>A</a:t>
            </a:r>
            <a:r>
              <a:rPr b="0" lang="en-US" sz="2200" spc="-1" strike="noStrike" baseline="30000">
                <a:solidFill>
                  <a:srgbClr val="ff0000"/>
                </a:solidFill>
                <a:latin typeface="Lucida Sans"/>
              </a:rPr>
              <a:t>t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Sans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Lucida Sans"/>
              </a:rPr>
              <a:t>A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0" i="1" lang="en-US" sz="2200" spc="-1" strike="noStrike">
                <a:solidFill>
                  <a:srgbClr val="ff0000"/>
                </a:solidFill>
                <a:latin typeface="Lucida Sans"/>
              </a:rPr>
              <a:t> X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Sans"/>
              </a:rPr>
              <a:t>k</a:t>
            </a:r>
            <a:r>
              <a:rPr b="0" lang="en-US" sz="2200" spc="-1" strike="noStrike" baseline="30000">
                <a:solidFill>
                  <a:srgbClr val="ff0000"/>
                </a:solidFill>
                <a:latin typeface="Lucida Sans"/>
              </a:rPr>
              <a:t>t</a:t>
            </a:r>
            <a:r>
              <a:rPr b="0" i="1" lang="en-US" sz="2200" spc="-1" strike="noStrike">
                <a:solidFill>
                  <a:srgbClr val="ff0000"/>
                </a:solidFill>
                <a:latin typeface="Lucida Sans"/>
              </a:rPr>
              <a:t> X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Sans"/>
              </a:rPr>
              <a:t>k </a:t>
            </a: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(both are n x n matrices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lnSpc>
                <a:spcPct val="110000"/>
              </a:lnSpc>
              <a:spcBef>
                <a:spcPts val="25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us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 define how to project A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X</a:t>
            </a:r>
            <a:r>
              <a:rPr b="0" i="1" lang="en-US" sz="2300" spc="-1" strike="noStrike" baseline="-25000">
                <a:solidFill>
                  <a:srgbClr val="ff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= 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Lucida Sans"/>
              </a:rPr>
              <a:t>t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A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(use def of SVD of A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y play role of A, its cols ar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proj.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24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milarly Q can be interpreted as a new col of A and thus it is enough to multipl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mes Q to get the projected query, O(km) ti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012000" y="0"/>
            <a:ext cx="2952720" cy="1341360"/>
          </a:xfrm>
          <a:prstGeom prst="wedgeRoundRectCallout">
            <a:avLst>
              <a:gd name="adj1" fmla="val -16398"/>
              <a:gd name="adj2" fmla="val -483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119640" y="260280"/>
            <a:ext cx="30243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U,V are formed by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orthonormal eigenvector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of the matrices D,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ich are the concepts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1080" y="155700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-th concept = c-th col of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(which is m x k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[i][c] = strength of association between c-th concept and i-th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[c][j] = strength of association between c-th concept and j-th docum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-29844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jected document: d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[c] =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strenght of concep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c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in 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-29844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jected query: q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[c] =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strenght of concep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c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in 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Projec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Rounded Rectangle 3"/>
          <p:cNvSpPr/>
          <p:nvPr/>
        </p:nvSpPr>
        <p:spPr>
          <a:xfrm>
            <a:off x="5796000" y="630864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Slides only 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n interesting math resul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810720" y="5661000"/>
            <a:ext cx="647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Lucida Sans"/>
              </a:rPr>
              <a:t>f() is called JL-embedd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Lucida Sans"/>
              </a:rPr>
              <a:t>Setting v=0 we also get a bound on f(u)’s stretching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539640" y="1775160"/>
            <a:ext cx="799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Lemma (Johnson-Linderstrauss, ‘8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t P be a set of n distinct points in m-dimensi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&gt; 0, there exists a function f : P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R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uch that for every pair of points u,v in P it hold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Tahoma"/>
              </a:rPr>
              <a:t>(1 - 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) ||u - v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≤ ||f(u) – f(v)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≤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c00000"/>
                </a:solidFill>
                <a:latin typeface="Tahoma"/>
              </a:rPr>
              <a:t>(1 + 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) ||u-v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here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k = O(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-2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 log 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704360" cy="4041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What about the </a:t>
            </a:r>
            <a:r>
              <a:rPr b="0" i="1" lang="it-IT" sz="3600" spc="-1" strike="noStrike">
                <a:solidFill>
                  <a:srgbClr val="000000"/>
                </a:solidFill>
                <a:latin typeface="Lucida Sans"/>
              </a:rPr>
              <a:t>cosine-distance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AutoShape 5"/>
          <p:cNvSpPr/>
          <p:nvPr/>
        </p:nvSpPr>
        <p:spPr>
          <a:xfrm rot="20432400">
            <a:off x="4788000" y="3141720"/>
            <a:ext cx="1224000" cy="360360"/>
          </a:xfrm>
          <a:prstGeom prst="leftArrow">
            <a:avLst>
              <a:gd name="adj1" fmla="val 50000"/>
              <a:gd name="adj2" fmla="val 84915"/>
            </a:avLst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6208560" y="289548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f(u)’s, f(v)’s stretchin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AutoShape 5"/>
          <p:cNvSpPr/>
          <p:nvPr/>
        </p:nvSpPr>
        <p:spPr>
          <a:xfrm rot="20432400">
            <a:off x="4940280" y="4243320"/>
            <a:ext cx="1224000" cy="360360"/>
          </a:xfrm>
          <a:prstGeom prst="leftArrow">
            <a:avLst>
              <a:gd name="adj1" fmla="val 50000"/>
              <a:gd name="adj2" fmla="val 84915"/>
            </a:avLst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123600" y="3997440"/>
            <a:ext cx="276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substituting formula abov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for  ||u-v||</a:t>
            </a:r>
            <a:r>
              <a:rPr b="0" lang="it-IT" sz="1600" spc="-1" strike="noStrike" baseline="30000">
                <a:solidFill>
                  <a:srgbClr val="3333cc"/>
                </a:solidFill>
                <a:latin typeface="Lucida Sans"/>
              </a:rPr>
              <a:t>2</a:t>
            </a: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324000" y="4076640"/>
            <a:ext cx="8424720" cy="223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79280" y="2924280"/>
            <a:ext cx="8856720" cy="172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How to compute a JL-embedding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5" name="Group 12"/>
          <p:cNvGrpSpPr/>
          <p:nvPr/>
        </p:nvGrpSpPr>
        <p:grpSpPr>
          <a:xfrm>
            <a:off x="3203640" y="5443560"/>
            <a:ext cx="2993760" cy="1461240"/>
            <a:chOff x="3203640" y="5443560"/>
            <a:chExt cx="2993760" cy="1461240"/>
          </a:xfrm>
        </p:grpSpPr>
        <p:sp>
          <p:nvSpPr>
            <p:cNvPr id="196" name="AutoShape 8"/>
            <p:cNvSpPr/>
            <p:nvPr/>
          </p:nvSpPr>
          <p:spPr>
            <a:xfrm>
              <a:off x="3203640" y="5516640"/>
              <a:ext cx="1150560" cy="1081080"/>
            </a:xfrm>
            <a:prstGeom prst="rightArrow">
              <a:avLst>
                <a:gd name="adj1" fmla="val 50000"/>
                <a:gd name="adj2" fmla="val 2660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4503240" y="5443560"/>
              <a:ext cx="1694160" cy="14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E[p</a:t>
              </a:r>
              <a:r>
                <a:rPr b="0" lang="it-IT" sz="2400" spc="-1" strike="noStrike" baseline="-38000">
                  <a:solidFill>
                    <a:srgbClr val="000000"/>
                  </a:solidFill>
                  <a:latin typeface="Lucida Sans"/>
                </a:rPr>
                <a:t>i,j</a:t>
              </a: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] = 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Var[p</a:t>
              </a:r>
              <a:r>
                <a:rPr b="0" lang="it-IT" sz="2400" spc="-1" strike="noStrike" baseline="-38000">
                  <a:solidFill>
                    <a:srgbClr val="000000"/>
                  </a:solidFill>
                  <a:latin typeface="Lucida Sans"/>
                </a:rPr>
                <a:t>i,j</a:t>
              </a: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] = 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8" name="Rectangle 3"/>
          <p:cNvSpPr/>
          <p:nvPr/>
        </p:nvSpPr>
        <p:spPr>
          <a:xfrm>
            <a:off x="684360" y="1717560"/>
            <a:ext cx="79261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we set the projection matrix P = 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,j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s a random m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k matrix, where its components are independent random variables with one of the following two distributi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9" name="CasellaDiTesto 2" descr=""/>
          <p:cNvPicPr/>
          <p:nvPr/>
        </p:nvPicPr>
        <p:blipFill>
          <a:blip r:embed="rId1"/>
          <a:stretch/>
        </p:blipFill>
        <p:spPr>
          <a:xfrm>
            <a:off x="1803240" y="3467160"/>
            <a:ext cx="5524560" cy="711000"/>
          </a:xfrm>
          <a:prstGeom prst="rect">
            <a:avLst/>
          </a:prstGeom>
          <a:ln w="0">
            <a:noFill/>
          </a:ln>
        </p:spPr>
      </p:pic>
      <p:pic>
        <p:nvPicPr>
          <p:cNvPr id="200" name="CasellaDiTesto 8" descr=""/>
          <p:cNvPicPr/>
          <p:nvPr/>
        </p:nvPicPr>
        <p:blipFill>
          <a:blip r:embed="rId2"/>
          <a:stretch/>
        </p:blipFill>
        <p:spPr>
          <a:xfrm>
            <a:off x="888840" y="4495680"/>
            <a:ext cx="6832800" cy="622440"/>
          </a:xfrm>
          <a:prstGeom prst="rect">
            <a:avLst/>
          </a:prstGeom>
          <a:ln w="0">
            <a:noFill/>
          </a:ln>
        </p:spPr>
      </p:pic>
      <p:sp>
        <p:nvSpPr>
          <p:cNvPr id="201" name="CasellaDiTesto 3"/>
          <p:cNvSpPr/>
          <p:nvPr/>
        </p:nvSpPr>
        <p:spPr>
          <a:xfrm>
            <a:off x="7259760" y="4365720"/>
            <a:ext cx="326880" cy="39888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eding up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cosine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we could take our vectors and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ack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m into fewer dimension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(say 50,000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100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hile preserving distanc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ow, O(nm) to compute cos(d,q) for all n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en, O(km+kn) where k &lt;&lt; n,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etho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t semantic indexing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dom proj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inally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539640" y="1791720"/>
            <a:ext cx="799164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Random projections hide large consta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1/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2 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* log n, so k may be large…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t is simple and fast to compu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71680" y="3710880"/>
            <a:ext cx="799128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LSI is intuitive and may scale to any 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ptimal under various metri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ut costly to compute, do exist good libra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riefl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SI is data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k-dim subspace by eliminating redundant ax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ull together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lated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xes – hopeful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andom projection is data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oose a k-dim subspace that guarantees good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stretching propertie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with high probability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tween any pair of poin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5580000" y="363528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What about polysemy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atent Semantic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55640" y="2757600"/>
            <a:ext cx="7677000" cy="308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5790960" y="5840280"/>
            <a:ext cx="30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ourtesy of Susan Duma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8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tions from linear algebr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A, vector v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transpose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produc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an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igenvalu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eigenvector v: Av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3" name="Group 17"/>
          <p:cNvGrpSpPr/>
          <p:nvPr/>
        </p:nvGrpSpPr>
        <p:grpSpPr>
          <a:xfrm>
            <a:off x="2700360" y="4581360"/>
            <a:ext cx="4247640" cy="1726920"/>
            <a:chOff x="2700360" y="4581360"/>
            <a:chExt cx="4247640" cy="1726920"/>
          </a:xfrm>
        </p:grpSpPr>
        <p:pic>
          <p:nvPicPr>
            <p:cNvPr id="104" name="Picture 18" descr="txp_fig"/>
            <p:cNvPicPr/>
            <p:nvPr/>
          </p:nvPicPr>
          <p:blipFill>
            <a:blip r:embed="rId1"/>
            <a:stretch/>
          </p:blipFill>
          <p:spPr>
            <a:xfrm>
              <a:off x="2824920" y="5382360"/>
              <a:ext cx="4000680" cy="80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9"/>
            <p:cNvSpPr/>
            <p:nvPr/>
          </p:nvSpPr>
          <p:spPr>
            <a:xfrm>
              <a:off x="3167640" y="458136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rebuchet MS"/>
                  <a:ea typeface="Arial Unicode MS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Rectangle 20"/>
            <p:cNvSpPr/>
            <p:nvPr/>
          </p:nvSpPr>
          <p:spPr>
            <a:xfrm>
              <a:off x="2700360" y="4581360"/>
              <a:ext cx="4247640" cy="172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0000"/>
                </a:lnSpc>
                <a:spcBef>
                  <a:spcPts val="601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verview of LS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-process docs using a technique from linear algebra call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Singular Value Decomposi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reate a new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mall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vector spa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ies handled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fast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in this new spa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ngular-Value Decompos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trix of term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docs,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as ran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,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276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term-ter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rrelation matrix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=A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a square, symmetr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matrix of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eigenvector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doc-do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rrelation matrix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=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a square, symmetr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matrix of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eigenvector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decompos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6292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for T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for D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ormed by orthonormal columns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unit dot-product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 turns out that </a:t>
            </a:r>
            <a:r>
              <a:rPr b="0" i="1" lang="en-US" sz="3400" spc="-1" strike="noStrike">
                <a:solidFill>
                  <a:srgbClr val="000000"/>
                </a:solidFill>
                <a:latin typeface="Lucida Sans"/>
              </a:rPr>
              <a:t>A = U S</a:t>
            </a:r>
            <a:r>
              <a:rPr b="0" i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4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i="1" lang="en-US" sz="3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agona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 with the eigenvalues of T=A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decreasing ord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1547640" y="3068640"/>
          <a:ext cx="617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068640"/>
                    <a:ext cx="617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5"/>
          <p:cNvSpPr/>
          <p:nvPr/>
        </p:nvSpPr>
        <p:spPr>
          <a:xfrm>
            <a:off x="3566880" y="5091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258640" y="62578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205160" y="6184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339160" y="59864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6727320" y="5824440"/>
            <a:ext cx="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117520" y="5049720"/>
            <a:ext cx="6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074120" y="5049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5007240" y="51577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6582600" y="504972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8"/>
          <p:cNvSpPr/>
          <p:nvPr/>
        </p:nvSpPr>
        <p:spPr>
          <a:xfrm>
            <a:off x="5265720" y="4941720"/>
            <a:ext cx="4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x som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zero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ll but th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iggest eigenvalues in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a40508"/>
                </a:solidFill>
                <a:latin typeface="Comic Sans MS"/>
              </a:rPr>
              <a:t>[choice of k is crucial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note by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his new version of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, having rank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Typically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is about 100, while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ja-JP" sz="1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s ran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) is &gt; 10,000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26" name="Object 2"/>
          <p:cNvGraphicFramePr/>
          <p:nvPr/>
        </p:nvGraphicFramePr>
        <p:xfrm>
          <a:off x="1486080" y="1973160"/>
          <a:ext cx="617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6080" y="1973160"/>
                    <a:ext cx="617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6"/>
          <p:cNvSpPr/>
          <p:nvPr/>
        </p:nvSpPr>
        <p:spPr>
          <a:xfrm>
            <a:off x="3495600" y="40035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015440" y="508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270400" y="4967280"/>
            <a:ext cx="490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6708240" y="4921200"/>
            <a:ext cx="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mensionality re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194920" y="5097600"/>
            <a:ext cx="532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4" name="Group 38"/>
          <p:cNvGrpSpPr/>
          <p:nvPr/>
        </p:nvGrpSpPr>
        <p:grpSpPr>
          <a:xfrm>
            <a:off x="2124000" y="3429000"/>
            <a:ext cx="1425240" cy="1720800"/>
            <a:chOff x="2124000" y="3429000"/>
            <a:chExt cx="1425240" cy="1720800"/>
          </a:xfrm>
        </p:grpSpPr>
        <p:sp>
          <p:nvSpPr>
            <p:cNvPr id="135" name="Rectangle 14"/>
            <p:cNvSpPr/>
            <p:nvPr/>
          </p:nvSpPr>
          <p:spPr>
            <a:xfrm>
              <a:off x="2124000" y="3708360"/>
              <a:ext cx="287280" cy="14414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AutoShape 15"/>
            <p:cNvSpPr/>
            <p:nvPr/>
          </p:nvSpPr>
          <p:spPr>
            <a:xfrm rot="10800000">
              <a:off x="2195280" y="3573000"/>
              <a:ext cx="215640" cy="360360"/>
            </a:xfrm>
            <a:custGeom>
              <a:avLst/>
              <a:gdLst>
                <a:gd name="textAreaLeft" fmla="*/ 0 w 215640"/>
                <a:gd name="textAreaRight" fmla="*/ 185760 w 215640"/>
                <a:gd name="textAreaTop" fmla="*/ 30816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53" y="0"/>
                  </a:moveTo>
                  <a:lnTo>
                    <a:pt x="12706" y="7200"/>
                  </a:lnTo>
                  <a:lnTo>
                    <a:pt x="15792" y="7200"/>
                  </a:lnTo>
                  <a:lnTo>
                    <a:pt x="15792" y="18424"/>
                  </a:lnTo>
                  <a:lnTo>
                    <a:pt x="0" y="18424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7153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2514960" y="34290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a000"/>
                  </a:solidFill>
                  <a:latin typeface="Lucida Sans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8" name="Group 37"/>
          <p:cNvGrpSpPr/>
          <p:nvPr/>
        </p:nvGrpSpPr>
        <p:grpSpPr>
          <a:xfrm>
            <a:off x="4643280" y="4508280"/>
            <a:ext cx="4313880" cy="1622520"/>
            <a:chOff x="4643280" y="4508280"/>
            <a:chExt cx="4313880" cy="1622520"/>
          </a:xfrm>
        </p:grpSpPr>
        <p:sp>
          <p:nvSpPr>
            <p:cNvPr id="139" name="Line 20"/>
            <p:cNvSpPr/>
            <p:nvPr/>
          </p:nvSpPr>
          <p:spPr>
            <a:xfrm flipH="1" flipV="1">
              <a:off x="4643280" y="4797000"/>
              <a:ext cx="1152720" cy="1079640"/>
            </a:xfrm>
            <a:prstGeom prst="line">
              <a:avLst/>
            </a:prstGeom>
            <a:ln w="28440">
              <a:solidFill>
                <a:srgbClr val="00a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Line 21"/>
            <p:cNvSpPr/>
            <p:nvPr/>
          </p:nvSpPr>
          <p:spPr>
            <a:xfrm flipV="1">
              <a:off x="5796000" y="4508280"/>
              <a:ext cx="936720" cy="1368360"/>
            </a:xfrm>
            <a:prstGeom prst="line">
              <a:avLst/>
            </a:prstGeom>
            <a:ln w="28440">
              <a:solidFill>
                <a:srgbClr val="00a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Text Box 22"/>
            <p:cNvSpPr/>
            <p:nvPr/>
          </p:nvSpPr>
          <p:spPr>
            <a:xfrm>
              <a:off x="5803200" y="5732640"/>
              <a:ext cx="315396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a000"/>
                  </a:solidFill>
                  <a:latin typeface="Lucida Sans"/>
                </a:rPr>
                <a:t>useless due to 0-col/0-row of </a:t>
              </a:r>
              <a:r>
                <a:rPr b="0" lang="it-IT" sz="1600" spc="-1" strike="noStrike">
                  <a:solidFill>
                    <a:srgbClr val="00a000"/>
                  </a:solidFill>
                  <a:latin typeface="Symbol"/>
                  <a:ea typeface="Symbol"/>
                </a:rPr>
                <a:t></a:t>
              </a:r>
              <a:r>
                <a:rPr b="0" lang="it-IT" sz="1600" spc="-1" strike="noStrike" baseline="-25000">
                  <a:solidFill>
                    <a:srgbClr val="00a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2" name="Rectangle 27"/>
          <p:cNvSpPr/>
          <p:nvPr/>
        </p:nvSpPr>
        <p:spPr>
          <a:xfrm>
            <a:off x="4314240" y="5353200"/>
            <a:ext cx="64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x r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6973200" y="522936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r x n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29"/>
          <p:cNvSpPr/>
          <p:nvPr/>
        </p:nvSpPr>
        <p:spPr>
          <a:xfrm>
            <a:off x="5293800" y="4653000"/>
            <a:ext cx="264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5" name="Group 36"/>
          <p:cNvGrpSpPr/>
          <p:nvPr/>
        </p:nvGrpSpPr>
        <p:grpSpPr>
          <a:xfrm>
            <a:off x="6012000" y="3716280"/>
            <a:ext cx="1619280" cy="936720"/>
            <a:chOff x="6012000" y="3716280"/>
            <a:chExt cx="1619280" cy="936720"/>
          </a:xfrm>
        </p:grpSpPr>
        <p:sp>
          <p:nvSpPr>
            <p:cNvPr id="146" name="Rectangle 19"/>
            <p:cNvSpPr/>
            <p:nvPr/>
          </p:nvSpPr>
          <p:spPr>
            <a:xfrm>
              <a:off x="6012000" y="4365720"/>
              <a:ext cx="1619280" cy="28728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6018840" y="386064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6300720" y="371628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9" name="Group 35"/>
          <p:cNvGrpSpPr/>
          <p:nvPr/>
        </p:nvGrpSpPr>
        <p:grpSpPr>
          <a:xfrm>
            <a:off x="3995640" y="3645000"/>
            <a:ext cx="792360" cy="1487520"/>
            <a:chOff x="3995640" y="3645000"/>
            <a:chExt cx="792360" cy="1487520"/>
          </a:xfrm>
        </p:grpSpPr>
        <p:sp>
          <p:nvSpPr>
            <p:cNvPr id="150" name="Rectangle 18"/>
            <p:cNvSpPr/>
            <p:nvPr/>
          </p:nvSpPr>
          <p:spPr>
            <a:xfrm>
              <a:off x="4500720" y="3691080"/>
              <a:ext cx="287280" cy="144144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4074120" y="364500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Line 33"/>
            <p:cNvSpPr/>
            <p:nvPr/>
          </p:nvSpPr>
          <p:spPr>
            <a:xfrm>
              <a:off x="3995640" y="39085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3" name="Line 34"/>
          <p:cNvSpPr/>
          <p:nvPr/>
        </p:nvSpPr>
        <p:spPr>
          <a:xfrm>
            <a:off x="5003640" y="4724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4" name="Group 39"/>
          <p:cNvGrpSpPr/>
          <p:nvPr/>
        </p:nvGrpSpPr>
        <p:grpSpPr>
          <a:xfrm>
            <a:off x="5003640" y="3716280"/>
            <a:ext cx="792360" cy="936720"/>
            <a:chOff x="5003640" y="3716280"/>
            <a:chExt cx="792360" cy="936720"/>
          </a:xfrm>
        </p:grpSpPr>
        <p:sp>
          <p:nvSpPr>
            <p:cNvPr id="155" name="Rectangle 23"/>
            <p:cNvSpPr/>
            <p:nvPr/>
          </p:nvSpPr>
          <p:spPr>
            <a:xfrm>
              <a:off x="5508720" y="3716280"/>
              <a:ext cx="287280" cy="93672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Rectangle 24"/>
            <p:cNvSpPr/>
            <p:nvPr/>
          </p:nvSpPr>
          <p:spPr>
            <a:xfrm>
              <a:off x="5003640" y="4365720"/>
              <a:ext cx="792360" cy="28728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>
              <a:off x="5003640" y="3716280"/>
              <a:ext cx="505080" cy="649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5229720" y="3789360"/>
              <a:ext cx="2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077800" y="3789360"/>
            <a:ext cx="740880" cy="902160"/>
            <a:chOff x="5077800" y="3789360"/>
            <a:chExt cx="740880" cy="902160"/>
          </a:xfrm>
        </p:grpSpPr>
        <p:sp>
          <p:nvSpPr>
            <p:cNvPr id="160" name="Text Box 11"/>
            <p:cNvSpPr/>
            <p:nvPr/>
          </p:nvSpPr>
          <p:spPr>
            <a:xfrm>
              <a:off x="5509800" y="42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5077800" y="42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5509800" y="3789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3" name="Text Box 46"/>
          <p:cNvSpPr/>
          <p:nvPr/>
        </p:nvSpPr>
        <p:spPr>
          <a:xfrm>
            <a:off x="2196720" y="5084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Rectangle 52"/>
          <p:cNvSpPr/>
          <p:nvPr/>
        </p:nvSpPr>
        <p:spPr>
          <a:xfrm>
            <a:off x="4318560" y="5361120"/>
            <a:ext cx="6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x k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Rectangle 53"/>
          <p:cNvSpPr/>
          <p:nvPr/>
        </p:nvSpPr>
        <p:spPr>
          <a:xfrm>
            <a:off x="6977160" y="522936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k x n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8-12-03T10:10:37Z</dcterms:modified>
  <cp:revision>1239</cp:revision>
  <dc:subject/>
  <dc:title>Web Algorithmics</dc:title>
</cp:coreProperties>
</file>